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13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94EC3-0516-400A-BC84-8E61804EDF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38044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B39E3-C30F-4108-A3D5-CA676D04CC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38044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8044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8C24D-3D46-40DF-83B5-85B2DF5517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90792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90792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38044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38044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38044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211C4-772F-440F-9937-999FC71A5E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F4EF0-76D8-4CB9-9C11-6BCCBF2751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A33B3-3A98-4456-860C-8A2CB8E381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F4416-7A34-440E-9BDB-BFDC86C29B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03733-0772-4A4B-AE02-62BE2EE589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8760E-A05E-45EE-93B9-3B6DAC34B9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4D4D2-13EB-4A04-9CA7-D078E47F39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50920" y="38044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35587-31B6-42BC-B878-58BF0DB273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EFEB8-5B11-4AAE-94B6-E71E57257C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9280" y="38044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67506-1621-4767-ADF8-63B99974E8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0920" y="38044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9A1F4-B0B6-4EED-9029-76AF0DB4E6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50920" y="38044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30474-766B-4A7A-889C-98D3A868DE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50920" y="38044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9280" y="38044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79C70-6259-4C53-B660-48CA97D6AB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73040" y="90792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0" y="90792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50920" y="38044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73040" y="38044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94800" y="38044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384A1-8BBC-4F7D-9B79-397A30DDD0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339D7-1C11-4D2D-8385-843A3F4CDF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67BA9-A367-4000-AC90-BD4B6EDCCF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12640-264E-49CC-812E-580BEF5707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6DEA2-A2C4-4A05-B1D8-0993D8ADBA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38044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5AF2A-7AED-459B-9200-9ADAF8C87D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8044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5FE4A-6796-4210-83AF-1C86AE5462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38044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CBB4E-50D9-45F1-9CDE-3B5B2EE9BF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8100720" y="6243480"/>
            <a:ext cx="86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2F62-6AED-4A2A-B25C-14EC8079E518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4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8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2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6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0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4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sldNum" idx="2"/>
          </p:nvPr>
        </p:nvSpPr>
        <p:spPr>
          <a:xfrm>
            <a:off x="7956720" y="6243480"/>
            <a:ext cx="86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F801-D143-4C3A-9725-A4BE084A2B93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85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www.segen.co.uk/eng/wind/windspeed.htm" TargetMode="External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Lesson 2</a:t>
            </a:r>
            <a:br>
              <a:rPr sz="4800"/>
            </a:b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All about GIS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521000" y="4221000"/>
            <a:ext cx="614664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(which stands for Geographic Information Systems)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6E53C-476F-4302-9BD4-AF65D861FB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Hole Story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52578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Information can be shared between utilities via a secure website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website uses a GIS to pinpoint the location of water mains, gas pipes, electricity cables and sewers as well as details of current and future work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llowing all the utilities to access this information means that all utilities can agree to carry out work at the same time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Digging up the road only once helps to minimise public disruption and saving time and money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5867280" y="765000"/>
            <a:ext cx="2678400" cy="21114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5724360" y="2997360"/>
            <a:ext cx="2873520" cy="222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BEBAC-3F36-4AFC-A78C-E7AA52A287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One more example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521000" y="4221000"/>
            <a:ext cx="614664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It’s a breeze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BA4E7-1B64-4A11-8A04-AC1C31FBE4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It’s a breeze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52578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Wind farms can provide a source of alternative energy but finding the right location for the turbines can be difficult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Dave works for an energy company that is keen to investigate the use of wind turbines as an alternative way of generating power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He is asked to work on a project to identify suitable sites for a new wind farm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location needs to balance environmental concerns with operational efficiency.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5724360" y="1773360"/>
            <a:ext cx="3030840" cy="232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EFBAD-4B1E-499F-8F82-798AEC957B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It’s a breeze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52578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Dave has followed the debate in the newspapers and knows that the effect of the turbines’ appearance on the landscape is a major concern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Many other factors, however, also need to be considered when choosing a site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se include wind speed, wind direction, distance from the existing electrical grid system, access to the site, size of the site and the shape and profile of the land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5435640" y="1125360"/>
            <a:ext cx="3535200" cy="27212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6156360" y="4064040"/>
            <a:ext cx="2592360" cy="231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03917-BC34-40D8-83B6-C178C32C39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It’s a breeze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48258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By inputting data from various sources regarding weather, civil and military airfields, telecommunications and environmental organisations, Dave begins to put together a case for the available site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He still needs to take into account the height and spacing of the turbines so that they can produce the required amount of electricity balanced against their visual impact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932360" y="1052640"/>
            <a:ext cx="3913200" cy="29937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6199200" y="4213440"/>
            <a:ext cx="1930320" cy="145548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Anyone spy anything wrong with this map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04547-27BD-4B08-ABAC-7AEE1CEB61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It’s a breeze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48258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Dave adds height data and information to produce a 3D model giving a virtual view of the site as it would appear from different directions, distances and perspective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s enables him to focus on particular locations to check the turbines’ impact on the view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information Dave produces is used to support planning applications and to reassure local residents that the wind farm will cause minimal disruption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4788000" y="981000"/>
            <a:ext cx="4128840" cy="324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441CD-8AB2-420F-B63E-C7142DACB6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To find out if you could use a wind turbine on your house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ASK YOUR PARENTS FIRS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Then go to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cc99ff"/>
                </a:solidFill>
                <a:uFillTx/>
                <a:latin typeface="Comic Sans MS"/>
                <a:hlinkClick r:id="rId4"/>
              </a:rPr>
              <a:t>http://www.segen.co.uk/eng/wind/windspeed.htm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Enter business type – residential, you name etc and press Lookup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If the answer is 5 or better still 5.5 m/s then your home is potentially a good place to put a small wind turbine!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C01D9-B82A-457B-B770-1411A8876C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Now for the worksheet and to work towards your homework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1FE84-2979-4F6C-BCF3-8C364A1A90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848360" cy="55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C83D7-09E6-4CC0-BA77-380DC46CD6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416720" cy="537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201C6-C266-418C-BB6A-F55D797006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What is GIS? 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42447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Comic Sans MS"/>
              </a:rPr>
              <a:t>Introduction: </a:t>
            </a: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Paper maps only tell us where a place is.  GIS uses digital maps and information to help us make decisions and solve problems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Comic Sans MS"/>
              </a:rPr>
              <a:t>Hardware: </a:t>
            </a: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GIS runs on mainframe computers, PCs, small PDAs or even mobile phones to organise information and map the results of investigations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435640" y="907920"/>
            <a:ext cx="2949480" cy="215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641FF-044B-49E6-B65C-0648913BA4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064720" cy="540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E9DC1-5F57-43E3-9F59-5388868DCF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84360" y="771480"/>
            <a:ext cx="8064360" cy="551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82C51-9B10-478B-8E0E-382ADC44A1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Click on the  ‘i’ by Lockerford to find …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Population - 2,000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A small village to the west of Melchester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It grew on the site of a ford that farmers used when bringing their cattle to Melchester market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Now seen as one of the most desirable and expensive places to live in the area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Lots of commuters choose to live there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Latest flood information: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Casualties – 0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Evacuations - 100 people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Estimated insurance claims - £ 50,000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2630B-BAAD-444D-A728-D4E47DCF4F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1. Locker Valley Storage basin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52578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otal Cost = £ 5.0 million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173160" indent="-1731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Earth-moving equipment will dig out two large basins connected to the river by drainage channel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173160" indent="-1731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t times of high water, flood gates are opened allowing water to drain away from the river into the basins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173160" indent="-1731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Locker Valley meadows are home to many wetland bird species that will be disturbed during construction. However, long term the wildlife will benefit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173160" indent="-1731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people of Lockerby are likely to be upset by all the noise from the earth moving machinery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6"/>
          <a:stretch/>
        </p:blipFill>
        <p:spPr>
          <a:xfrm>
            <a:off x="5451480" y="981000"/>
            <a:ext cx="3584520" cy="4392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 rot="20163600">
            <a:off x="5651640" y="2997360"/>
            <a:ext cx="504720" cy="647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cdc8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1196B-9EB3-4D7A-9C82-A2F44955ED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Having gathered the information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6814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You will need to put in a score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But you cannot really do that until you know a bout ALL the sites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Hence the worksheet I hope you have open!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5148360" y="1125360"/>
            <a:ext cx="3456000" cy="238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0D1F9-4D83-4139-A777-E22F600A9E5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2. Locker Brook Relief Channel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54734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otal Cost = £ 10.0 million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A large drainage channel connecting the Locker Brook to the River Falmer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At times of high water, a flood gate is opened which allows the floodwater to be safely diverted past west Melchester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No opposition whatsoever from local residents, although the nearby main road will need to be closed during construction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Some high quality farmland to the south-west of Melchester will also be lost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6"/>
          <a:stretch/>
        </p:blipFill>
        <p:spPr>
          <a:xfrm>
            <a:off x="6432480" y="981000"/>
            <a:ext cx="2459160" cy="37432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 flipV="1">
            <a:off x="6877080" y="4365360"/>
            <a:ext cx="574560" cy="71892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2CF82-E50F-4940-B899-835BC40CC94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3. Melchester drain by pas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58338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Total Cost = £ 12.0 million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A large underground tunnel offering a more direct escape route for floodwater from the River Falmer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At times of high water, the tunnel is opened diverting water from the meanders near the town centre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Little environmental impact but local residents concerned about possible damage to houses caused by tunnel excavation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6156360" y="907920"/>
            <a:ext cx="1919160" cy="2880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 flipH="1" flipV="1">
            <a:off x="7956720" y="2565000"/>
            <a:ext cx="792000" cy="14292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63B0E-567F-4C66-B38C-69BF50A63D4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4. Falmer Ring Dyke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61214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otal Cost = £ 15.0 million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A massive ringed embankment around the Falmer Levels which would allow floodwaters from the River Falmer and the River Dank to be held back, protecting all of Melchester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Would cause significant damage to the environment during construction due to the amount of earth that would need to be moved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It is expected to fill only once every 200 year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People living in north Melchester are likely to be upset by the noise from all the earth moving machinery required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6"/>
          <a:stretch/>
        </p:blipFill>
        <p:spPr>
          <a:xfrm>
            <a:off x="6459480" y="981000"/>
            <a:ext cx="2379600" cy="27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E50BE-9B42-4C70-B653-3E3B797EADE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5 Swinford temporary basin 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58338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otal Cost = £ 5.0 million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Removable flood walls that can be mounted into place with relatively little warning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Effective with smaller floods but not high enough to cope with 100 year flood events such as that experienced in 2001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Little environmental impact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Local residents in Swinford are highly supportive of the proposal although the people of Melchester are concerned that it would merely divert floodwater downstream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>
            <a:off x="6300720" y="1125360"/>
            <a:ext cx="2498760" cy="28083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 flipH="1" flipV="1">
            <a:off x="8101080" y="2852280"/>
            <a:ext cx="287280" cy="136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7ECA1-8BD0-42AB-B80A-FB2FAFFC184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6. Bend Flood Wall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61214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otal Cost = £ 5.0 million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A permanent flood wall made                            from local stone built to protect                 the village of Bend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It would also allow access to                          Bend and Narrowbridge during                         times of flood when the main                       road is blocked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Effective with smaller floods but not high enough to cope with 100 year flood events such as that experienced in 2001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Local residents in Bend are highly supportive of the proposal although the Bridgefordshire Tourist Board is concerned that it will ruin the lovely scenic views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5508720" y="1052640"/>
            <a:ext cx="3330360" cy="20066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flipH="1">
            <a:off x="7092720" y="549360"/>
            <a:ext cx="647640" cy="136692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8660E-E049-4B07-B303-4F227AE005A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Software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42447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GIS software is a set of computer ‘tools’ for collecting, storing, processing and displaying sets of information linked to places on maps. 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re are different types of GIS ‘tools’:  for instance, a GIS that analyses land use is different from a GIS that maps the quickest route to a fire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4500720" y="1052640"/>
            <a:ext cx="4240080" cy="31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AD196-7B04-4522-9E6D-13507D5092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Map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496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mic Sans MS"/>
              </a:rPr>
              <a:t>Electronic maps and images: 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An essential component of any GIS is some kind of map or image of an area. This can be a digital map, satellite image or aerial photograph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Many GIS will use a full range of map data and images as a base to link information against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The  maps are produced  either as raster or vector data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250920" y="4005000"/>
            <a:ext cx="82087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mic Sans MS"/>
              </a:rPr>
              <a:t>Raster maps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These are images made by a series of coloured dots on a screen (pixels), just like high quality digital photographs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Raster maps can be thought of as ‘unintelligent’ as you can only obtain information that is visually represented on them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Raster maps take up a lot of computer storage space but can be very useful as background maps to other information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8"/>
          <a:stretch/>
        </p:blipFill>
        <p:spPr>
          <a:xfrm>
            <a:off x="5361120" y="765000"/>
            <a:ext cx="3531960" cy="2586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C15EB-591C-4078-8D3B-C649077077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Map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4968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Comic Sans MS"/>
              </a:rPr>
              <a:t>Vector maps</a:t>
            </a: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Each vector map feature is recorded using XY coordinate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hese may be a single point (like a trig point), lines (such as roads) or polygons (such as buildings or woods)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he referenced features of vector maps make it possible for a GIS to link information from spreadsheets and databases to the map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Vector data is stored in themed layers such as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Roads, water, settlement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5003640" y="981000"/>
            <a:ext cx="3781440" cy="28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70B94-BF49-4D1A-83ED-E3D9BA9007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Map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43923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Comic Sans MS"/>
              </a:rPr>
              <a:t>Data:</a:t>
            </a: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It is easier to make sense of complicated spreadsheets and databases when they are linked to maps in a GIS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It is estimated that over 80% of all data has some link to a geographic place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Comic Sans MS"/>
              </a:rPr>
              <a:t>People:</a:t>
            </a: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The vital ingredient!  We need people who understand digital maps and databases and know how to use GIS to organise the data on maps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They can ask the right questions and produce new maps showing the results. 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This helps to plan the way we live and use our environment for the future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5796000" y="115920"/>
            <a:ext cx="3092400" cy="22748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7"/>
          <a:stretch/>
        </p:blipFill>
        <p:spPr>
          <a:xfrm>
            <a:off x="5791320" y="2349360"/>
            <a:ext cx="3101760" cy="2286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8"/>
          <a:stretch/>
        </p:blipFill>
        <p:spPr>
          <a:xfrm>
            <a:off x="5796000" y="4594320"/>
            <a:ext cx="3079800" cy="226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B3E35-8B70-441C-97D2-8C3BD313E7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An example of how it works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521000" y="4221000"/>
            <a:ext cx="614664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The Hole Story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E7EDE-4151-445D-A260-63647C2572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Hole Story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42447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vast networks of underground pipes supplying our water, electricity and gas are hidden from view, so how do we know where it’s safe to dig?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Louise works for a water authority to maintain the company's network of water mains and sewer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She uses a GIS to create a complete overview of the pipeline which helps her to monitor its condition and performance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4716360" y="1413000"/>
            <a:ext cx="3710160" cy="289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8E0C2-6D6C-409A-9DEA-8609752A7D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Hole Story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42447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o minimise the risks involved in digging trenches, laying cables and other maintenance and building projects, utility companies must share their underground asset maps upon request with other organisations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 GIS is built up of lots of different layers of information which users can Switch on and off depending on their need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4572000" y="1052640"/>
            <a:ext cx="4092480" cy="32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4738F-0757-4179-9828-76D7FF4DFD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3T21:00:19Z</dcterms:created>
  <dc:creator>Lindy</dc:creator>
  <dc:description/>
  <dc:language>en-US</dc:language>
  <cp:lastModifiedBy>Lindy</cp:lastModifiedBy>
  <dcterms:modified xsi:type="dcterms:W3CDTF">2008-08-13T21:55:40Z</dcterms:modified>
  <cp:revision>2</cp:revision>
  <dc:subject/>
  <dc:title>Lesson 2 All about G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